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BB1-0D1C-48AA-B45B-E027A83E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55B-1669-4D08-AF64-02D9EBD4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FA908-5CFB-4CEA-9AF2-E75F30C7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324EA-C498-40CC-BBAA-203EDB92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B80A9-971C-44C2-A7C4-9AE9A92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7CE70-DE2E-4149-A606-3768F38A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B94D9-802A-46B6-A5DA-6CC75812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427EE-9784-4FE3-95E1-B20889C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924B8-101D-46DE-832D-1654E963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C4716-ECDE-4429-A3BD-F6AE77D2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F48D4-2D0A-4BC9-8892-AA5A8795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3F8C4-E4F3-46B3-855F-273183A1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C9B-EF1B-4A5E-87BD-94CF4CEF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C9E6C-566A-4B97-AD4F-E2026A6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22DD9-7A79-4F8D-8CA4-24C94C70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99958-835E-4510-95D9-C27B65C6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47823-A830-4CEB-828F-493E3340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9376B-DF87-403D-AE9B-75A5A007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CCEDD-0642-4486-BA9A-BC0FC2AB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60865-9426-4BCD-AF28-8E1C5F20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C0585-7139-4685-8035-AB2B6071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4721B-7A45-455D-9E82-3EF65652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0A53B-BF84-42FE-8FD9-56868B55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583-12F1-475A-8E01-315B651A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1F9DA-565B-457B-81BF-A5536060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B141C-BBFD-49C1-910F-AAE0A68A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DE23D-2EED-4A09-9631-72809A3F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4A791-CA3E-42EA-898D-CC061B1C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7A5CC-5A8F-41B4-8B7C-04C102B7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10E12-4A5B-42BE-B3B3-DE5157C7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5B517-79CB-4043-B58D-C872D817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A024C-A2B5-48E0-A318-03A2EEDA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76BB4-CC0B-41CD-8FC7-76C9F905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B0A28-6689-46A6-899C-FE9F93D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F10B-FFEF-46E4-BA8E-A689922C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BED28-0882-43AE-9F83-17AF0791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377D5-ED17-44B6-B190-120A9109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4E783-FD74-45FC-A696-853174CF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88AD0-5EE0-446B-8DDD-6497BB8D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CD73E-32C0-49DB-87BB-6E45C483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AD958-2B45-42BD-8EF4-7462E4CF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61A06-F393-4BA6-9C1D-9AE253CC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28E1B-5041-4ED9-A153-DFCD60BD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FBCAB-8C3B-4103-8629-DED6B15D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90FE5-3F23-4B38-B98B-5B3DC74C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094A-4C59-4E1E-99C8-795775A8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E00B4-9A7E-4FC0-BAE7-2616DF3F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F4036-615D-40E2-BFD1-3CA171F8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D3FDD-C976-4024-9064-CECACD68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92909-8040-48A3-9268-8F57D526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BAD5D-4055-4EAB-9AE8-052267E7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F0BD8-C0C6-495E-982E-211F675C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52B05-3157-4EDD-B25D-026CDD5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EC505-09D3-403A-9571-F19A0486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39314-5B6F-418C-AAB3-F4ED8C84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64042-D88F-41FE-8204-ADA2285C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2FD-E67F-4FC4-B3FA-9275077E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93C07-481F-4D68-AAC6-A3E94704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6CF9A-4F01-41BD-A3E3-767A2822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1BAC6-E42B-4292-917C-DFFD6865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58EF9-FDE5-422E-9110-E54B17A4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E8F33-DAAE-4906-8FAC-549DD19E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A2A39-BAB5-4727-AF74-0D44FF2E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4FE18-1598-4B59-9DFE-9A5C7568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9E1EC-1001-4C7C-B877-9B25567E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1C78D-B4A5-4A3B-9B66-3B7BF01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B2FB3-3C2D-4683-8301-A92969F6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27FC-8385-452F-A2DA-1C1C2280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30F15-D6C9-40A8-AB06-B73C12FD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D83A8-A057-468F-9F85-5C59D638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0153B-6970-4185-A145-1A33E825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BFF9E-F829-4635-8A19-60C2FFF6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F5529-DAE1-4B66-B76B-9EF64C75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A9B78-8C27-45D1-9C6C-9F3F088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9ADC6-BC4E-445D-A89C-D9DFF09C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C2C2C-88BB-4999-A764-B2D834F4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A338B-B484-401D-BDB1-99C38118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9C394-F97C-4F72-8916-6B23228A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9333-FC50-4C31-8CF7-117F18AC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2FABF-9C66-4266-9380-1E4DEF95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5586C-1802-4B41-9CA4-271B3E9E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E6CBC-03AC-41F0-A6A3-D4C0BDE9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DA1C6-F1B6-4BC8-A555-35FBE522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A2C75-8884-494E-AC35-7FA8DC83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B4D66-E811-4C0A-8105-D3D4B7CE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92BA4-EA9A-4A3A-B12F-DC62BE2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244A5-832F-46FA-9EAC-F5249109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6B179-656C-4DC0-9F9C-DFCD0A4C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F1173-0402-48DC-9700-4DCD27AD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003D-FAF7-4257-A618-D8C5CFDA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85F68-F9BB-47D0-9016-0AE901FE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CB69C-DD11-443C-8C0D-011C0059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4C98E-0DB3-4F8F-95F2-26CEC63A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7C76D-3E46-48BF-920C-52436959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43518-09C3-4739-B4BF-C89E9047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A8A95-0CB6-480A-80E4-26AFBA51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4C694-5C6C-4E03-930C-2DC85A3B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E5E5C-58C5-4CB2-9213-7331C5F0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52A85-ED8D-49B3-BA03-641CAC85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DFCF1-2A26-4806-B555-EC992A8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2A2-BDC9-45DC-A2ED-09455EAE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10698-A860-4356-A6CD-EC3CBE7F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54420-C20C-43F8-BAF0-DE176B3E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3F0B5-37DD-4036-8F1E-8F487C65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12AE6-E82F-4DC8-B8F1-04184249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45F90-6793-4E9A-8C97-53B1715E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DA321-BFEF-423B-9AEB-0F207EFF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96828-A0B8-4955-8AE8-587987D3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5E0C9-E973-4447-91B4-713B4E10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C1871-2F7B-4B74-B7D1-E5BDE05E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9FA3D-5C88-4BAD-A9C8-3A7585D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30E-5C5C-4B9E-A865-BA769214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C26E-9176-494B-B136-A954943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8661E-50FE-425A-840F-E149AFCC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A584E-A1FC-40E0-9972-322AC5F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69B4E-CB5C-4DE7-BC54-0C796B65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531F9-CDB9-4579-B3C4-59F41027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7797C-3800-452C-84A3-78C2ADB6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9FE14-EB9C-4164-9030-F11A627D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67BB0-D6E6-4DA7-AAFC-C733B6C4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1F757-6CB2-4CB1-AB79-6AEF5EA9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AF4B1-E543-4F55-A827-94DC0494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F9528-EFA4-4FDC-8DAA-169FA19D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1254-CC7A-4097-A3D7-B179323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0C8D6-5AF9-4DCA-87E0-42357EBA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73A44-F6B9-4340-9FE9-59E572E2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2BF1B-159C-4FDD-8FAE-398386C4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12E88-CDD1-493C-8AFD-EA6B8BBD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6648D-165D-40AA-A741-42DC5203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33D14-D186-485D-896C-9FE4701F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89DB1-306C-4CE0-9512-05A0CE72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76A9-315A-4488-A567-802B6073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6E1B-48F5-47C7-80E2-1FEB90A1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A5EB-8DAC-4FF9-A227-15EBDB82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04DD-C25E-465E-AADF-9EC168B2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35BE-2100-42B0-AA2B-D2B02241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19B1-548B-44AC-814F-971B804B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642C-38A0-4C44-9662-59A5D0A2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37BA-5C86-45DE-95BE-2E475D5C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6DC-AAF1-45E2-8531-ECFD19E1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7488-8B15-46E9-B49D-7CA89001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D963-B2AD-4589-8959-39A49A9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316D-E4A7-41BF-8626-41F27D6F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7E2A-8903-4D07-BDD4-6FD193E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0C4B-A888-4E8B-ACE3-C2CD213B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145F6-AEF2-4C39-A326-AFFDC58F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FE54-68D1-40F8-B9CE-248935F5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1B0E-89BF-4035-8B63-90B0A446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DDE1-1A8F-4902-BFC1-8299DEC4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6ADB9-9882-4306-B2BD-ABC40566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757-F762-4B76-9071-805E6C6C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0CA7-2767-413F-AE40-352A40F9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7A87-3B59-43FC-B431-061D8895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2944C-B28B-4F6F-8304-CCB71511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E98C5-BA1E-432A-AD3A-B0E3F14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E202-127B-4B71-951C-42928E67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A935-1ABA-469F-BA76-7BDFECB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927D9-7ED5-4613-BEB8-B11BBA81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BC082-CCD1-4096-87FB-F29780EC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29B1-317B-437F-BC0C-E8FB2AA3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EDBA0-5AB4-409E-980C-F79C5847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092-A65A-4F43-9AA7-02631896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C5B91-9770-4ECD-BD23-9F43B900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A5F8-B4B0-43CD-9EAC-91ADF3E4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D63A4-08DB-4C46-8FE6-FD1C062C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0A756-D7B9-4452-B8AC-D0B21104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AD13-2B8F-4AEC-89C9-4E9D50B8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D659-98B0-4B80-BEAB-7825426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CC3AD-20F1-40CA-8AF0-6C30E5B4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D459A-9E30-4337-9549-DB07BBE8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900EF-F6E6-4CE5-9307-30698D5F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80994-88D0-4F6C-BA0F-63E02521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D9E-0CA4-4946-B6D1-95DBBD89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E414-3BD2-4E56-A9B3-8868E4A2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E25D3-A49D-4709-A965-E3B0CBC7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1803D-C2A4-4CEA-B867-E3989BEC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A5FE4-A88C-49CC-B9CD-D4A63C3D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084DF-B69C-4C0C-8F0A-4D471545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29D2-4FE3-46E1-B58B-7E048FD9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B27B1-F82E-4B0F-BCA9-07CD42E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6CE65-A6BF-4ED1-B42F-9ED3B74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8CD95-11FF-4C94-8479-56FAC65D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00C0B-ABB0-4133-9EE7-887E6619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1E1-C59A-44E8-BEF8-181433B3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D1AD9-13F2-4B04-8529-ADFB493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7884B-F199-4778-80BF-EE5916A1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7FBBB-BAB4-4283-908F-C90921B8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2E1E6-5DC5-4C31-B32C-834CA513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E853-3190-47A7-A986-793049E5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C8A1-56FB-4FAA-88A9-A91366C8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69B5-1CB0-4FBF-8DC3-E0C5BAAC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3B37-8649-4321-AF1F-E2A30801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4CEE-C3A8-4953-97E0-18C992FE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9585-FC34-463C-805B-D4A8BD08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A70-6F96-413E-830D-F1C031EA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BA04-4128-42CA-A90E-F8D8A2E5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914D-C66D-4870-9B92-2E7A5159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C7FD-9348-42EE-9217-4A22C8F8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34D55-91ED-475E-BCD1-2DAEE70F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7F27-F60D-4789-901D-E7FDB6D0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0F000-6881-47FB-A109-B1A2DEEC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ABC6A-B99F-4C92-820E-32B05F1B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C49C-58E0-40DA-A034-A300C1A6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3C428-5E74-4A75-A67C-2399D02F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1C91-B703-4123-8395-9C903F3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AAB-C4E3-4830-BE87-7F86C70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4E339-3551-4FCF-9499-F34D4F84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86D90-138E-4743-886E-B0E3AF6B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CD49D-0E4D-4C00-B28E-BF16EBB5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F24F5-3109-4EB4-94E6-ADB32680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43C48-54AC-48AA-A94A-21714987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51CA9-70FC-4C59-B507-52687432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992D8-9BA0-411D-A472-1B6658DE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A2835-2D12-4C15-90C7-93909186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979CE-941D-40EC-9E16-DDF66CBB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4997D-FE76-4496-85DF-8DF3D650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D7782-1EC8-422E-83D2-98CB3D0EC2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80D3A-6052-40B4-9CD4-7D75E6428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9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9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3342C-5C2A-4475-AA2E-8F2D485291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E4844-FF01-452E-8B83-299F75527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440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ounded Rectangle 8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21C19-412F-4E40-8BD3-52EAA45AFEF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62941-A606-430C-B7C3-29F50150B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485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88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81A57-E780-46AB-96F3-2C90A8B4BA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50CC3-24EC-40F9-8E77-84640A93C4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532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ounded Rectangle 8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C9F88-6877-4264-9155-57A1FA9A9CA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492A8-6961-4D1A-B284-AD7BE8BA9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577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80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89883-1378-45BB-89A6-B1B170D062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91383-B300-4C90-A272-0AC879D58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624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ounded Rectangle 9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419A7-A6CF-4770-A9F2-8EA47BBC6EC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9E3B4-747F-405D-8F79-8999D826C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669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672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6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729EA-ACAD-41F7-8EFA-B11E16FFBFC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7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8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01ACA-CB5E-4AF4-880F-8F3AF670D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Date Placeholder 4"/>
          <p:cNvSpPr/>
          <p:nvPr/>
        </p:nvSpPr>
        <p:spPr>
          <a:xfrm>
            <a:off x="95580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96942-3051-424B-BAD3-D7FFA31DF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6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E67C4-8CA2-4BDB-85D1-9E4B30643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8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718" name="Picture 9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ounded Rectangle 9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TextBox 11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FCA82-179B-41B5-8F84-A719178FEE0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CAD87-FBFF-41E0-93DF-C0F560A73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76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76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12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CF2F6-A27C-4F65-A218-4270956314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BC9D3-D8ED-48F1-AFD9-7922FEB76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F1CE3-C1C8-43DB-9017-30B51F03935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940FB-86E8-4DE3-8B05-B8870FB45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852CA-D4AA-45E0-8748-45892C971D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4917E-A46F-4479-9183-D015C6846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57E58-C725-4CC7-B75F-487CB16891C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68540-3184-4AB4-9BB5-E6B45ACFF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94AE1-8405-4342-9195-9E7410C3898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4A45A-2318-4B1E-BE1E-981FDAEF4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211" name="Picture 7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8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43788-6EE1-4D52-9A9C-F76F692ECB2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9E0BA-0F9B-48C5-A9B8-6E2362DC6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ounded Rectangle 9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34A02-2870-4966-90C7-DD4916B4EF5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040FD-C3DD-4B13-90AA-78F98AC212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01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4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1"/>
            <p:cNvSpPr/>
            <p:nvPr/>
          </p:nvSpPr>
          <p:spPr>
            <a:xfrm>
              <a:off x="3614760" y="6411960"/>
              <a:ext cx="5527800" cy="540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BAE22-BC78-4BD7-A922-4204EC77445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2A8C6-AF0D-4EBD-B394-BE4E9B023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348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ounded Rectangle 8"/>
            <p:cNvSpPr/>
            <p:nvPr/>
          </p:nvSpPr>
          <p:spPr>
            <a:xfrm>
              <a:off x="219240" y="219240"/>
              <a:ext cx="870588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472C1-0140-4E75-95A6-51BBB1DE5E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A9079-61CC-4A69-8C5E-6E2646136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Training Module CPG T1DM – </a:t>
            </a:r>
            <a:br>
              <a:rPr sz="4400"/>
            </a:b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Case Discussion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854440" y="3473280"/>
            <a:ext cx="565632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/P Dr. Muhammad Yazid Jalalud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Senior Lecturer &amp; Consultant Paediatric Endocrinologist, Universiti Malaya, Kuala Lump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Dr. Suhaimi Huss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Senior Lecturer &amp; Consultant Paediatric Endocrinologist, Universiti Sains Malaysia, Kelant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813" name="Slide Number Placeholder 4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D1F17-3286-4885-A637-5AB1AEB7C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28200" y="1699920"/>
            <a:ext cx="8008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mergency assessment &amp; manag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irways &amp; breath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make sure airway is patent &amp; patient is breathing adequat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rcu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rapid bolus 10 ml/kg of 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scious lev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no intubation if GCS is &gt;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luid manag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subsequent rehydration &amp; maintenance fluid should be calculated,                                &amp; infused over 48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lectrolyt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based on VBG/lab results, add KCl to fluid 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ul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DO NOT give bolus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2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LIN infusion to start 1 - 2 hours af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2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fluids, start insulin infusion 0.1 unit/kg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150BD-BE41-48C1-B014-E0FC027A2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14280"/>
            <a:ext cx="78868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28560" y="996840"/>
            <a:ext cx="788688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mergency assessment &amp; manag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5" name="Picture 3" descr=""/>
          <p:cNvPicPr/>
          <p:nvPr/>
        </p:nvPicPr>
        <p:blipFill>
          <a:blip r:embed="rId1"/>
          <a:stretch/>
        </p:blipFill>
        <p:spPr>
          <a:xfrm>
            <a:off x="1015920" y="1438200"/>
            <a:ext cx="7102440" cy="4915080"/>
          </a:xfrm>
          <a:prstGeom prst="rect">
            <a:avLst/>
          </a:prstGeom>
          <a:ln w="0">
            <a:noFill/>
          </a:ln>
        </p:spPr>
      </p:pic>
      <p:sp>
        <p:nvSpPr>
          <p:cNvPr id="84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6654A-AAB6-4549-A5FE-EBE7F7C35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28560" y="1998360"/>
            <a:ext cx="788688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ere should you manage this pat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637BC-ED0D-4E1E-A8DE-6809DE42A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1" name="Picture 3" descr=""/>
          <p:cNvPicPr/>
          <p:nvPr/>
        </p:nvPicPr>
        <p:blipFill>
          <a:blip r:embed="rId1"/>
          <a:stretch/>
        </p:blipFill>
        <p:spPr>
          <a:xfrm>
            <a:off x="563400" y="2471760"/>
            <a:ext cx="8017200" cy="1914480"/>
          </a:xfrm>
          <a:prstGeom prst="rect">
            <a:avLst/>
          </a:prstGeom>
          <a:ln w="0">
            <a:noFill/>
          </a:ln>
        </p:spPr>
      </p:pic>
      <p:sp>
        <p:nvSpPr>
          <p:cNvPr id="852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1DE4E-2351-4727-9273-348F7F347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28560" y="1982520"/>
            <a:ext cx="7886880" cy="37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would you administer the fluid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17A7A-2EE6-4827-A1C7-26AA1396F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28560" y="1601280"/>
            <a:ext cx="788688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id management: rapid bolus 10 ml/kg of NS followed by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658800" y="2641680"/>
            <a:ext cx="7832880" cy="3327480"/>
          </a:xfrm>
          <a:prstGeom prst="rect">
            <a:avLst/>
          </a:prstGeom>
          <a:ln w="0">
            <a:noFill/>
          </a:ln>
        </p:spPr>
      </p:pic>
      <p:sp>
        <p:nvSpPr>
          <p:cNvPr id="85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BEFBC-09BA-44B5-A5A5-E9D538D22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275760"/>
            <a:ext cx="788688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1211400" y="1022400"/>
            <a:ext cx="6681600" cy="5292720"/>
          </a:xfrm>
          <a:prstGeom prst="rect">
            <a:avLst/>
          </a:prstGeom>
          <a:ln w="0">
            <a:noFill/>
          </a:ln>
        </p:spPr>
      </p:pic>
      <p:cxnSp>
        <p:nvCxnSpPr>
          <p:cNvPr id="862" name="Straight Arrow Connector 4"/>
          <p:cNvCxnSpPr/>
          <p:nvPr/>
        </p:nvCxnSpPr>
        <p:spPr>
          <a:xfrm>
            <a:off x="2439720" y="3048120"/>
            <a:ext cx="1080" cy="808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3EFA6-E5C5-4A0C-A5D0-1A8E42FA7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14280"/>
            <a:ext cx="788688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677880" y="1133640"/>
            <a:ext cx="7864560" cy="16351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"/>
          <p:cNvPicPr/>
          <p:nvPr/>
        </p:nvPicPr>
        <p:blipFill>
          <a:blip r:embed="rId2"/>
          <a:stretch/>
        </p:blipFill>
        <p:spPr>
          <a:xfrm>
            <a:off x="679320" y="2914560"/>
            <a:ext cx="7723440" cy="326700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EF3D3-9D09-49DC-A48D-E17486147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28560" y="1998720"/>
            <a:ext cx="78868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 other important things to perform before starting insul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57B7F-967D-4800-9D3B-90700401C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28560" y="1998360"/>
            <a:ext cx="7886880" cy="90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otassium replacement: based on ECG/VBG/lab res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843120" y="2997360"/>
            <a:ext cx="7430760" cy="1734840"/>
          </a:xfrm>
          <a:prstGeom prst="rect">
            <a:avLst/>
          </a:prstGeom>
          <a:ln w="0">
            <a:noFill/>
          </a:ln>
        </p:spPr>
      </p:pic>
      <p:sp>
        <p:nvSpPr>
          <p:cNvPr id="87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7DAAE-2C19-4271-B1CE-659844430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28560" y="2030040"/>
            <a:ext cx="788688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-year-old b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ed with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27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miting for 2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27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uria, polydipsia for 2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. What other symptoms would you look f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0C306-26E2-45A4-90E0-82255951C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14280"/>
            <a:ext cx="788688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28560" y="996840"/>
            <a:ext cx="788688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Potassium repla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1420920" y="1536840"/>
            <a:ext cx="6337080" cy="4749840"/>
          </a:xfrm>
          <a:prstGeom prst="rect">
            <a:avLst/>
          </a:prstGeom>
          <a:ln w="0">
            <a:noFill/>
          </a:ln>
        </p:spPr>
      </p:pic>
      <p:sp>
        <p:nvSpPr>
          <p:cNvPr id="87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F4B85-D1FA-409F-BFDA-705E31E3D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28560" y="2030040"/>
            <a:ext cx="788688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ould you start the insulin now?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would you do t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17C8B-28FE-4408-90C8-1AB8EEF8F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01320"/>
            <a:ext cx="788688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28560" y="1096560"/>
            <a:ext cx="788688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nsulin: DO NOT give bolus ins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NSULIN infusion - start 1 - 2 hrs af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starting fluids, start insulin infusion a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0.05 - 0.1 unit/kg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Picture 2" descr=""/>
          <p:cNvPicPr/>
          <p:nvPr/>
        </p:nvPicPr>
        <p:blipFill>
          <a:blip r:embed="rId1"/>
          <a:stretch/>
        </p:blipFill>
        <p:spPr>
          <a:xfrm>
            <a:off x="898560" y="3036960"/>
            <a:ext cx="7224840" cy="3203640"/>
          </a:xfrm>
          <a:prstGeom prst="rect">
            <a:avLst/>
          </a:prstGeom>
          <a:ln w="0">
            <a:noFill/>
          </a:ln>
        </p:spPr>
      </p:pic>
      <p:sp>
        <p:nvSpPr>
          <p:cNvPr id="885" name="TextBox 3"/>
          <p:cNvSpPr/>
          <p:nvPr/>
        </p:nvSpPr>
        <p:spPr>
          <a:xfrm>
            <a:off x="2397240" y="5956200"/>
            <a:ext cx="572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7F35F-FA47-4D15-AECD-5D989DAA5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28560" y="2014560"/>
            <a:ext cx="788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advise would you give to your junior doctors/nurses with regards to monitoring of this pat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do you adjust insulin in relation to B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5D116-4966-4C13-8CC5-9169D7E36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13920"/>
            <a:ext cx="78868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907920" y="1109520"/>
            <a:ext cx="7248600" cy="5153040"/>
          </a:xfrm>
          <a:prstGeom prst="rect">
            <a:avLst/>
          </a:prstGeom>
          <a:ln w="0">
            <a:noFill/>
          </a:ln>
        </p:spPr>
      </p:pic>
      <p:sp>
        <p:nvSpPr>
          <p:cNvPr id="892" name="TextBox 3"/>
          <p:cNvSpPr/>
          <p:nvPr/>
        </p:nvSpPr>
        <p:spPr>
          <a:xfrm>
            <a:off x="1260360" y="5227560"/>
            <a:ext cx="465768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5B19D-33BD-4503-A43E-D1C442FED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628560" y="1717200"/>
            <a:ext cx="788688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BG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Picture 2" descr=""/>
          <p:cNvPicPr/>
          <p:nvPr/>
        </p:nvPicPr>
        <p:blipFill>
          <a:blip r:embed="rId1"/>
          <a:stretch/>
        </p:blipFill>
        <p:spPr>
          <a:xfrm>
            <a:off x="380880" y="2395440"/>
            <a:ext cx="8353440" cy="3184560"/>
          </a:xfrm>
          <a:prstGeom prst="rect">
            <a:avLst/>
          </a:prstGeom>
          <a:ln w="0">
            <a:noFill/>
          </a:ln>
        </p:spPr>
      </p:pic>
      <p:sp>
        <p:nvSpPr>
          <p:cNvPr id="89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E373C-C382-40B5-A93E-CBB4EBFA9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28560" y="392040"/>
            <a:ext cx="788688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9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628560" y="1195560"/>
            <a:ext cx="788688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nitoring serum so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0" name="Picture 2" descr=""/>
          <p:cNvPicPr/>
          <p:nvPr/>
        </p:nvPicPr>
        <p:blipFill>
          <a:blip r:embed="rId1"/>
          <a:stretch/>
        </p:blipFill>
        <p:spPr>
          <a:xfrm>
            <a:off x="708120" y="1841400"/>
            <a:ext cx="7726320" cy="4351320"/>
          </a:xfrm>
          <a:prstGeom prst="rect">
            <a:avLst/>
          </a:prstGeom>
          <a:ln w="0">
            <a:noFill/>
          </a:ln>
        </p:spPr>
      </p:pic>
      <p:sp>
        <p:nvSpPr>
          <p:cNvPr id="90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D7753-6EC8-4F6A-980E-0EC0E6C12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628560" y="1933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was started on insulin infusion at 0.1 unit/kg/hour. His repeat VBG 2 hours after insulin initiation showed pH 6.9 &amp;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4.0 mmol/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 BP 115/65 &amp; PR 110 - 120 per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potassium from VBG was 4.8 mmol/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10. Would you give bicarbon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42D5E-28A3-4D66-B70E-2E63CFE1C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6" name="Picture 3" descr=""/>
          <p:cNvPicPr/>
          <p:nvPr/>
        </p:nvPicPr>
        <p:blipFill>
          <a:blip r:embed="rId1"/>
          <a:stretch/>
        </p:blipFill>
        <p:spPr>
          <a:xfrm>
            <a:off x="434880" y="2817720"/>
            <a:ext cx="8274240" cy="1222560"/>
          </a:xfrm>
          <a:prstGeom prst="rect">
            <a:avLst/>
          </a:prstGeom>
          <a:ln w="0">
            <a:noFill/>
          </a:ln>
        </p:spPr>
      </p:pic>
      <p:sp>
        <p:nvSpPr>
          <p:cNvPr id="907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DC37D-52AC-494C-99A5-9846443E7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439560"/>
            <a:ext cx="7886880" cy="7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628560" y="1447560"/>
            <a:ext cx="78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 ABG showed pH of 7.05 with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7 mmol/L. No bicarbonate was gi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about 6 hours of insulin infusion, you receive a call from the PICU nurse. Patient is getting more drowsy &amp; having severe heada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 GCS has dropped from 13/15 to 11/15 but he is still able to maintain his air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1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most important pathology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ou need to rule 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factors may have contribute to thi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59E4C-6DED-4AD6-B179-5BEAEC867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28560" y="1601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iabetes symptoms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yu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ydip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ctu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KA symptoms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hyd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dominal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m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id brea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260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ow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09E97-56A2-45B1-A239-2BFD2DCF1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25440"/>
            <a:ext cx="788688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1"/>
          <a:stretch/>
        </p:blipFill>
        <p:spPr>
          <a:xfrm>
            <a:off x="998640" y="1025640"/>
            <a:ext cx="7170480" cy="528948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BBCAD-3D8C-4F74-B8CA-976648B21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1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28560" y="1982880"/>
            <a:ext cx="78868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warning signs you would look f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243C6-2BCA-403B-921B-B1641EDB0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17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8" name="Picture 2" descr=""/>
          <p:cNvPicPr/>
          <p:nvPr/>
        </p:nvPicPr>
        <p:blipFill>
          <a:blip r:embed="rId1"/>
          <a:stretch/>
        </p:blipFill>
        <p:spPr>
          <a:xfrm>
            <a:off x="700200" y="1571760"/>
            <a:ext cx="7805520" cy="446076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C5740-9BE6-4506-9041-9218EDDE4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28560" y="1998720"/>
            <a:ext cx="78868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refully examine the patient &amp; not convinced that he has developed cerebral oede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13. How do you objectively assess the pati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or cerebral oede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742A5-E10B-481F-ADEF-2895EEB7E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4" name="Picture 2" descr=""/>
          <p:cNvPicPr/>
          <p:nvPr/>
        </p:nvPicPr>
        <p:blipFill>
          <a:blip r:embed="rId1"/>
          <a:stretch/>
        </p:blipFill>
        <p:spPr>
          <a:xfrm>
            <a:off x="557280" y="2484360"/>
            <a:ext cx="8109000" cy="194004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F098B-F8EF-453E-B506-AFCD57384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13920"/>
            <a:ext cx="78868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830160" y="1123920"/>
            <a:ext cx="7473960" cy="5105520"/>
          </a:xfrm>
          <a:prstGeom prst="rect">
            <a:avLst/>
          </a:prstGeom>
          <a:ln w="0">
            <a:noFill/>
          </a:ln>
        </p:spPr>
      </p:pic>
      <p:sp>
        <p:nvSpPr>
          <p:cNvPr id="928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9EB19-B006-4891-BDF7-D0F8B51E1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628560" y="1793520"/>
            <a:ext cx="78868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hydration fluids &amp; insulin infusion were given as instructed. Patient’s BG improved &amp; his serum ketone was 0.6 mmol/L about 30 hours after administration of insu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is hungry &amp; wanted to have his breakf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14. How would you do transition to his insul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g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950FF-CA33-47AB-97F6-D03645B37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6811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28560" y="1844640"/>
            <a:ext cx="788688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Insulin tran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4" name="Picture 2" descr=""/>
          <p:cNvPicPr/>
          <p:nvPr/>
        </p:nvPicPr>
        <p:blipFill>
          <a:blip r:embed="rId1"/>
          <a:stretch/>
        </p:blipFill>
        <p:spPr>
          <a:xfrm>
            <a:off x="620640" y="2514600"/>
            <a:ext cx="7866000" cy="27432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3" descr=""/>
          <p:cNvPicPr/>
          <p:nvPr/>
        </p:nvPicPr>
        <p:blipFill>
          <a:blip r:embed="rId2"/>
          <a:stretch/>
        </p:blipFill>
        <p:spPr>
          <a:xfrm>
            <a:off x="588960" y="5214960"/>
            <a:ext cx="7897680" cy="690480"/>
          </a:xfrm>
          <a:prstGeom prst="rect">
            <a:avLst/>
          </a:prstGeom>
          <a:ln w="0">
            <a:noFill/>
          </a:ln>
        </p:spPr>
      </p:pic>
      <p:sp>
        <p:nvSpPr>
          <p:cNvPr id="936" name="Slide Number Placeholder 5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C5327-42BB-4D57-81F7-0271BD5C4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4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628200" y="1998360"/>
            <a:ext cx="79218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nsulin require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re-pubertal growth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0.7 - 1 IU/kg/da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uberty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1.2 - 2 IU/kg/da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A0C2C-8669-42A2-B2E4-6CA90DF62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28560" y="1967040"/>
            <a:ext cx="788688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10-year-old boy was recently diagnosed to have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had 2 weeks history of polyuria, polydipsia, nocturia as well as vomiting &amp; abdominal pain 2 days prior to hospital ad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y was initially treated as DKA on admission &amp; presently he has recovered from D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5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are the factors to consider in choos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right insulin regimen for this bo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E2435-446F-4F01-8393-842644CE46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412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28560" y="1494000"/>
            <a:ext cx="788688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agnosis of 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439560" y="2085840"/>
            <a:ext cx="8232840" cy="384192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D82EC-885F-45AE-8916-5FC22CB18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466560" y="2014560"/>
            <a:ext cx="8223480" cy="2951280"/>
          </a:xfrm>
          <a:prstGeom prst="rect">
            <a:avLst/>
          </a:prstGeom>
          <a:ln w="0">
            <a:noFill/>
          </a:ln>
        </p:spPr>
      </p:pic>
      <p:sp>
        <p:nvSpPr>
          <p:cNvPr id="945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214B4-9D2F-4D61-AF7E-690377FCE9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628560" y="1949040"/>
            <a:ext cx="788688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y is a standard 4 student &amp; the youngest of 3 sibl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her is a housewife. Father is a teacher in the same school that he att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y used to have 3 main meals/day: 2 slices of bread with a boiled egg &amp; a glass of milk for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ing recess at school: a few pieces of biscuits or a tuna sandwich with plain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nch &amp; dinner (prepared by his mother): plate of rice with grilled chicken &amp; a bowl of carrot s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35118-B0CB-4376-89F4-13BFE5E228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628560" y="1950840"/>
            <a:ext cx="78868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y plays football about 2 times a week &amp; rides his bicycle almost every eve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6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ich insulin regimen should be start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D329A-1C67-4939-B809-AD2E09EC6F9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4446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28560" y="1727280"/>
            <a:ext cx="788688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ulin regimen: intensive regimen with prandial insulin for meal &amp; basal insulin at n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ain meals: 3 prandial insulin e.g. human insulin - short-acting insulin (actrapid or humulin 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analog short-acting insulin e.g. aspart (if he is willing to give extra jab for each snack in between main me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al insulin can be either human insulin or analog ba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mother is a full-time housewife, she should be able to take care of the boy in terms of BG/diet monitoring &amp; insulin injections at h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father is teaching in the same school, he can supervise &amp; serve insulin injection while the boy is at 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F9CAB-E09B-4D6C-A39B-43ED6DF0B0B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6" name="Picture 2" descr=""/>
          <p:cNvPicPr/>
          <p:nvPr/>
        </p:nvPicPr>
        <p:blipFill>
          <a:blip r:embed="rId1"/>
          <a:stretch/>
        </p:blipFill>
        <p:spPr>
          <a:xfrm>
            <a:off x="353880" y="2063880"/>
            <a:ext cx="8426520" cy="2854080"/>
          </a:xfrm>
          <a:prstGeom prst="rect">
            <a:avLst/>
          </a:prstGeom>
          <a:ln w="0">
            <a:noFill/>
          </a:ln>
        </p:spPr>
      </p:pic>
      <p:sp>
        <p:nvSpPr>
          <p:cNvPr id="957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7F303-0EF0-4881-A05E-D8DA58ED14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28560" y="587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micking endogenous insulin secretion to achieve best possible             glycaemic contro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9" name="Picture 25" descr=""/>
          <p:cNvPicPr/>
          <p:nvPr/>
        </p:nvPicPr>
        <p:blipFill>
          <a:blip r:embed="rId1"/>
          <a:stretch/>
        </p:blipFill>
        <p:spPr>
          <a:xfrm>
            <a:off x="754200" y="1932120"/>
            <a:ext cx="7697520" cy="398916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8"/>
          <p:cNvSpPr/>
          <p:nvPr/>
        </p:nvSpPr>
        <p:spPr>
          <a:xfrm>
            <a:off x="528480" y="596268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  <a:ea typeface="Arial"/>
              </a:rPr>
              <a:t>Owens DR, et al. Lancet. 2001 Sep 1;358(9283):739-46. Review. Erratum in: Lancet 2001 Oct 20;358(9290):13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EBDFD-D107-4E58-9A36-30113541E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696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1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628560" y="1998720"/>
            <a:ext cx="788688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recommended insulin dosages for this boy if the boy’s weight is 32.0 k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54FDE-E871-41B8-86C3-ED8BE04E7A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410760"/>
            <a:ext cx="788688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628560" y="1182240"/>
            <a:ext cx="788688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 gen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2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tal insulin (prepubertal)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7 - 1 IU/kg/day or 22.0 -  32.0 IU/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2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0% bas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about 10 - 15 IU/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2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0% prandial/bolu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10 - 15 IU; for 3 main meals about 2 - 5 IU each but these need to b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ITRATED ACCORDING TO PATTERN OF BG &amp; CHOICE OF FOO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AE865-A69B-4CA6-B382-0C90FF2455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8" name="Picture 2" descr=""/>
          <p:cNvPicPr/>
          <p:nvPr/>
        </p:nvPicPr>
        <p:blipFill>
          <a:blip r:embed="rId1"/>
          <a:stretch/>
        </p:blipFill>
        <p:spPr>
          <a:xfrm>
            <a:off x="504720" y="3994200"/>
            <a:ext cx="81504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9600" spc="-1" strike="noStrike">
                <a:solidFill>
                  <a:srgbClr val="3333ff"/>
                </a:solidFill>
                <a:latin typeface="Calibri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Slide Number Placeholder 1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509C5-BEB5-42D8-AD87-810E23589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439560"/>
            <a:ext cx="788688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hysical examin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28560" y="1617480"/>
            <a:ext cx="788688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examina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w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CS 13/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hyd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 150 - 160/min, good pulse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P 117/68 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R 35/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MY" sz="3000" spc="-1" strike="noStrike">
                <a:solidFill>
                  <a:srgbClr val="ff0000"/>
                </a:solidFill>
                <a:latin typeface="Calibri"/>
              </a:rPr>
              <a:t>Q2. What bedside test(s) would you perfor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E469D-E2F9-492D-A2DD-305A532E7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72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28560" y="2030400"/>
            <a:ext cx="78868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eight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dside te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apillary blood glucose (CB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B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rum ket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rin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71892-A11D-4DD8-BB4A-525C69AAB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506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Bedside tes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628560" y="1793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: 22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dside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G: ‘HI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BG: pH 7.011,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.0 , BE -23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ketone: 4.5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 test: glucose (4+), ketone 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3. What is the diagnos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627D9-B57C-41C2-990B-49E4764B0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28560" y="1542600"/>
            <a:ext cx="788688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agnosis - Type 1 DM with severe 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Picture 2" descr=""/>
          <p:cNvPicPr/>
          <p:nvPr/>
        </p:nvPicPr>
        <p:blipFill>
          <a:blip r:embed="rId1"/>
          <a:stretch/>
        </p:blipFill>
        <p:spPr>
          <a:xfrm>
            <a:off x="465120" y="2219400"/>
            <a:ext cx="8232840" cy="3771720"/>
          </a:xfrm>
          <a:prstGeom prst="rect">
            <a:avLst/>
          </a:prstGeom>
          <a:ln w="0">
            <a:noFill/>
          </a:ln>
        </p:spPr>
      </p:pic>
      <p:sp>
        <p:nvSpPr>
          <p:cNvPr id="83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74424-66D5-4087-8F06-AD5B73A3A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711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28560" y="2014200"/>
            <a:ext cx="788688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would you do 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B6101-166A-48DB-A05B-CE8D91620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04:18:09Z</dcterms:created>
  <dc:creator>Suriawati A.A.</dc:creator>
  <dc:description/>
  <dc:language>en-US</dc:language>
  <cp:lastModifiedBy>DrAmin</cp:lastModifiedBy>
  <dcterms:modified xsi:type="dcterms:W3CDTF">2017-01-03T01:56:29Z</dcterms:modified>
  <cp:revision>141</cp:revision>
  <dc:subject/>
  <dc:title>PowerPoint Presentation</dc:title>
</cp:coreProperties>
</file>